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27.png" ContentType="image/png"/>
  <Override PartName="/ppt/media/image33.jpeg" ContentType="image/jpeg"/>
  <Override PartName="/ppt/media/image10.png" ContentType="image/png"/>
  <Override PartName="/ppt/media/image9.png" ContentType="image/png"/>
  <Override PartName="/ppt/media/image11.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67B6-6DFE-42B2-9930-223926A219B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CBCC-4F1C-4348-9E92-35BBA0425F0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0C16-320B-437A-8AF2-F52D5046E8B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0551-63D1-4053-8177-2FE8723FFF1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E6B8-326E-498E-A30D-0C34A1F7C32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0AFC-539A-4DC0-AB98-53335C7C85B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1C19-DB7B-40CC-82D4-9808300967A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367B-A12D-4C30-851A-07667915733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212C-E1A5-4503-B8B2-A81DBBE50B8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2498-B3C5-4F5C-9EA3-B089F81980B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DC15-CCDC-4362-899B-FD5580750A6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134-AF6F-4FF0-BE9E-B0A902D764F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6B96-225C-4D09-931B-5A36452D347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D0C3-0FC1-4F1F-AAD9-131779BDBF1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CE73-1CBC-4ACC-A51B-9897307AB39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3CE8-98C5-4EBB-BC3F-2D73D43AAC8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14AA-9576-4508-88D8-54F3CCCA29A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EB52-1635-4E7E-AB53-F964F804B49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D13B-9223-419D-9547-F86A3294D7C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A680-F279-4060-AADF-F3D0F291C63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35A4-3B2C-48F8-A095-A91F23D0BAD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BF0B-D841-4C59-888A-FA7005F9EE7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CED2-6E6E-428A-9BED-0B144070B9E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4886-5CC2-49C9-B7AA-A91E362E3F0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8CDC-A1B2-4DC6-A42A-937F7451933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F198-A651-428B-93E9-A3ABCF7447A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235E-E970-4A18-A24C-357890C3F3C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43FC-F3B4-4E20-B1EB-EC8C8F4B643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8C9C-CBFF-4317-A671-FA909678BA5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DB1D-9286-4269-8A4C-FC1BD33A082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1639-3848-4229-BFE6-F3BD07B399F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69EE-22EF-4E57-83D0-E677E9A8EB8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F161-B004-473B-BFFC-4E793DA1D8E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643C-6C55-43BC-82C4-A54F63D5CB9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81FB-811D-4176-8D1A-0EF4B9CE671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E3D1-391E-4A4F-A5A8-014CA119DE0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A467-051C-4FD0-95EB-5EEDB949FB2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DA1E-14F1-46DB-ACEC-14C9E39F43C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016A-F411-49AE-8B4F-A82E7C97F01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70B7-DCAD-4D78-82EB-531D498CA45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69B9-D047-4E49-8489-D3CE9B75350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123B-1E24-488C-AE02-716EEC3B79A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AED9-BABA-4784-9EFB-5DD74EAAA64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2165-4C23-4611-A9D7-542F0BC4A2B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AC84-E8BA-4725-8883-A8163002BB5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80F9-5D6A-4835-A84D-9F714532C99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37E1-1AB5-4EE7-AD3A-E49FCAFE678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557C8-DCB6-492D-828D-B077F1C54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9BB6-329A-434B-A403-52E9749D7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75B1E-0CFA-42BF-8B61-1BB191910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E3E28-CD81-4720-99AA-10F03494B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76455-66F7-4B53-BC48-F548D1D41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206E7-D01F-4C48-819E-1FEBEFEEE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69B41-D11B-49F0-A060-896BFBD6A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F5FFF-3187-497F-A6A8-CD815D3BD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7698-4E96-48FA-958F-14AB088DE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B0D01-6B07-4E21-8D31-05CE57A6D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B3BA7-AAE2-4CBF-861B-9817A438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345A8-14E2-42F9-A74E-5554BA5A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D16FA-AC25-4A31-9A78-1A98D4981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667B7-76CB-4439-A2C2-3B33D6CF3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EA869-0463-4456-B011-26822BE63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486AE-CBF7-47DF-AFD6-A0F7E8E2D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B876C-78C6-423F-A68A-EFF8B05DE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F2D47-A1EA-4BCB-A5EB-966834F79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0DA53-65F3-4F95-B471-F4CC3598E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0E210-0A89-4A41-9A0B-4C2CDBDAA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64E0B-4F4A-4823-BAE0-FB1527173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92E71-77EC-4295-BECB-6B5B5993B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CAC65-A2D6-4B52-9CBF-55A48E27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0202E-99DB-490E-A4B1-D4FDA5795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24A28-BA8B-4EED-8F09-230D272B7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8F2E8-D976-4C61-AA9E-858B87457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EF225-B1F7-47E6-A381-7A9C57004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A85442-9738-452A-A35C-7DF15F0C2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F03A62-B87D-423F-B14E-AF067692F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026F7-2FAA-4BF6-BB50-87C2F0430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87792-5B4F-458C-92A8-4D7AFE2CD6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5CDFC-264D-4D99-B580-2B22DCAB9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C774F-1A1E-4C9E-9013-DD4662F0A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817B9-E4AE-4D1B-A5BF-205B7F8E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FE3AF-2252-4D34-9C79-E8EF52B0A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8C23F-8812-461A-A5AA-E469101FA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C6742-7701-49D0-8B16-6A828C8D8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B4FD6-84BE-4D16-B53D-9CDE6127F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1571D-5DF9-4ABA-9D6C-CC7BFF28A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9FB56-80C2-4C2D-B9CC-7D2120767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15D88-052B-4012-B83E-7A22E40AD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29245-2C00-47AC-88EC-9F1A0A9D56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01A03-8C98-44DE-ABBE-DC921C4867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AD6BE-AB31-46B9-9844-BEACF5343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8FD7-79B5-4B0B-926D-E9A0FABC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8DFB7-5405-4135-86F4-F4DBBAF62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C4E63-4E53-45C5-BF5A-8FB9AE059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25B41-79C2-4947-8999-09AD3ACBB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447D4-20EC-4786-98BB-A2E472B3F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44F2E-1351-4CB6-9C36-E2BF1D2A3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10252-B04C-4CF1-AE60-F1D073020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C7F9D-36A5-4432-9514-6B7E7BDC1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A35B1-15BD-4205-9A86-E1E43CEC5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29254-B271-4D1F-9FF5-490375B8E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1D44D4-B85E-4C8D-8B59-F6B6A0756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E214-1591-4261-B97A-DFE40CE59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7CB09B-1A7A-4C5C-B5F6-51DCB722F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A90C84-D9C3-4479-887C-713C82896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2DB95-C980-4BF3-AA7E-74B95556F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CAC27-6F98-4C54-9936-5E5D29D4A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FF9BF-7985-428B-9FE7-229FAE056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2E1A7-EC2D-41B1-AD10-749CA8F1E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59F416-CB9F-42AD-84D5-C7ADBC02E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4B31B-44AA-4797-B90F-DDDFE807C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9D14C-C7FC-4C64-B76E-E5312FC9B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E0372-7512-4A6F-BDE4-DF87FCA39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EE8E-87A0-4DA0-805D-A281A992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DDFC3-941E-41CD-9CC2-61CE04FD8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CAAB7E-CF5B-4371-B56E-739392B31E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02259-51B8-4470-B94B-7D04A7937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1A1D31-0E69-41F0-80A4-D2C251A37B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A68EEF-D766-4E90-846E-99C633A4BB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2DAE6-52E7-4BE4-85E5-6BDBBF37C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A4F4B-9E16-48C1-BE7B-74E4C209D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1F5DFB-202E-4AD7-8BB4-C26BA23AA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02C2B-17B6-4AB8-9923-F08F043DE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1F75F-0783-476F-9277-92882706E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049F-F285-4451-9025-2537C9FD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0451B-E439-47A9-8610-F280C01D2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F86F1-EBF4-4D90-B469-537E2C121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AE0B0-BDFF-41CA-85ED-4E8EDE4FA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41D7A3-C916-4A75-97E6-C47A7E9FA4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A81F8-A742-4385-8028-E1A87A5A0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AAEA0A-6659-4857-A6D4-13CABFA2BC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EFC88-8345-4B50-9F4F-7D32CA55C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16B18B-9746-48E1-9DDE-8A46156E87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497E2-C1B1-457B-B8BA-11A8C77F2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4F2846-6975-4A42-89DA-72D5F29C0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42FF-F4AB-4552-AD65-7BC2C05C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30A59-B76E-47AC-A6CB-46DF89E20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DC8D3-4810-4B65-B63A-2C74FDD96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94CC0-7791-4F65-8A11-8A33C1C15D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E342D-A87D-4189-94B1-67811A004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9B53F-7C09-49C4-BC63-8F2F9189F8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5A1C3C-F8B7-4869-8B40-671FD58225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2370D7-8851-4781-AC75-308F009B2D1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906F-4E6E-4887-8ECB-1F563D6C4A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C941-4DFA-4D0F-94A0-B5AEEAABEA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2673-4C78-4DC4-9A26-DCB5C97082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C911-D32A-4ADD-B0E5-D4E18C4699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4A9D-FC11-4AE6-A622-A762C43B1F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9054-A1E8-421D-AAA4-C9DFB8C107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02CF-058A-4C67-95A7-A70D65E9E2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FA66-DD6B-48C5-8913-2015708123B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9040" y="1390680"/>
            <a:ext cx="8192880" cy="2529000"/>
          </a:xfrm>
          <a:prstGeom prst="rect">
            <a:avLst/>
          </a:prstGeom>
          <a:ln w="0">
            <a:noFill/>
          </a:ln>
        </p:spPr>
      </p:pic>
      <p:sp>
        <p:nvSpPr>
          <p:cNvPr id="378" name="Rectangle 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6FF0-85F6-4F9B-AC38-1CF7804EDD9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
        <p:nvSpPr>
          <p:cNvPr id="379"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 descr=""/>
          <p:cNvPicPr/>
          <p:nvPr/>
        </p:nvPicPr>
        <p:blipFill>
          <a:blip r:embed="rId1"/>
          <a:stretch/>
        </p:blipFill>
        <p:spPr>
          <a:xfrm>
            <a:off x="457200" y="1481040"/>
            <a:ext cx="8229600" cy="4525920"/>
          </a:xfrm>
          <a:prstGeom prst="rect">
            <a:avLst/>
          </a:prstGeom>
          <a:ln w="0">
            <a:noFill/>
          </a:ln>
        </p:spPr>
      </p:pic>
      <p:sp>
        <p:nvSpPr>
          <p:cNvPr id="4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D823-F914-457F-834A-6B4D2962D1A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6" name="Rectangle 2" descr=""/>
          <p:cNvPicPr/>
          <p:nvPr/>
        </p:nvPicPr>
        <p:blipFill>
          <a:blip r:embed="rId2"/>
          <a:stretch/>
        </p:blipFill>
        <p:spPr>
          <a:xfrm>
            <a:off x="201600" y="274680"/>
            <a:ext cx="8485200" cy="1243080"/>
          </a:xfrm>
          <a:prstGeom prst="rect">
            <a:avLst/>
          </a:prstGeom>
          <a:ln w="0">
            <a:noFill/>
          </a:ln>
        </p:spPr>
      </p:pic>
      <p:pic>
        <p:nvPicPr>
          <p:cNvPr id="407" name="Picture 4" descr="appflowchart"/>
          <p:cNvPicPr/>
          <p:nvPr/>
        </p:nvPicPr>
        <p:blipFill>
          <a:blip r:embed="rId3"/>
          <a:stretch/>
        </p:blipFill>
        <p:spPr>
          <a:xfrm>
            <a:off x="324000" y="1916280"/>
            <a:ext cx="856908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lIns="90000" rIns="90000" tIns="46800" bIns="46800" anchor="t">
            <a:normAutofit/>
          </a:bodyPr>
          <a:p>
            <a:pPr marL="457200" indent="-457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Flow</a:t>
            </a:r>
            <a:endParaRPr b="0" lang="en-US" sz="24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dex.php serves as the front controller, initializing the base resources needed to run CodeIgniter.</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Router examines the HTTP request to determine what should be done with it.</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f a cache file exists, it is sent directly to the browser, bypassing the normal system execution.</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curity. Before the application controller is loaded, the HTTP request and any user submitted data is filtered for security.</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Controller loads the model, core libraries, plugins, helpers, and any other resources needed to process the specific request.</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finalized View is rendered then sent to the web browser to be seen. If caching is enabled, the view is cached first so that on subsequent requests it can be served.</a:t>
            </a:r>
            <a:endParaRPr b="0" lang="en-US" sz="2000" spc="-1" strike="noStrike">
              <a:solidFill>
                <a:srgbClr val="000000"/>
              </a:solidFill>
              <a:latin typeface="Lucida Sans Unicode"/>
            </a:endParaRPr>
          </a:p>
        </p:txBody>
      </p:sp>
      <p:sp>
        <p:nvSpPr>
          <p:cNvPr id="4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195B-C1F4-4E66-A468-7649766583B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457200" indent="-457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 is based on the Model-View-Controller development pattern</a:t>
            </a:r>
            <a:endParaRPr b="0" lang="en-US" sz="2800" spc="-1" strike="noStrike">
              <a:solidFill>
                <a:srgbClr val="000000"/>
              </a:solidFill>
              <a:latin typeface="Lucida Sans Unicode"/>
            </a:endParaRPr>
          </a:p>
          <a:p>
            <a:pPr lvl="1" marL="838080" indent="-38088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l </a:t>
            </a:r>
            <a:endParaRPr b="0" lang="en-US" sz="2400" spc="-1" strike="noStrike">
              <a:solidFill>
                <a:srgbClr val="000000"/>
              </a:solidFill>
              <a:latin typeface="Lucida Sans Unicode"/>
            </a:endParaRPr>
          </a:p>
          <a:p>
            <a:pPr lvl="2" marL="1257480" indent="-34308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presents data structures, typically will contain functions to retrieve, insert, and update information in a database.</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iew </a:t>
            </a:r>
            <a:endParaRPr b="0" lang="en-US" sz="2400" spc="-1" strike="noStrike">
              <a:solidFill>
                <a:srgbClr val="000000"/>
              </a:solidFill>
              <a:latin typeface="Lucida Sans Unicode"/>
            </a:endParaRPr>
          </a:p>
          <a:p>
            <a:pPr lvl="2" marL="1257480" indent="-34308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formation that is being presented to a user, normally a web page, but can also be a page fragment like a header or footer, RSS page, or any other type of "page"</a:t>
            </a:r>
            <a:endParaRPr b="0" lang="en-US" sz="2000" spc="-1" strike="noStrike">
              <a:solidFill>
                <a:srgbClr val="000000"/>
              </a:solidFill>
              <a:latin typeface="Lucida Sans Unicode"/>
            </a:endParaRPr>
          </a:p>
          <a:p>
            <a:pPr lvl="1" marL="838080" indent="-38088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roller </a:t>
            </a:r>
            <a:endParaRPr b="0" lang="en-US" sz="2400" spc="-1" strike="noStrike">
              <a:solidFill>
                <a:srgbClr val="000000"/>
              </a:solidFill>
              <a:latin typeface="Lucida Sans Unicode"/>
            </a:endParaRPr>
          </a:p>
          <a:p>
            <a:pPr lvl="2" marL="1257480" indent="-34308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rves as an intermediary between the Model, the View, and any other resources needed to process the HTTP request and generate a web page</a:t>
            </a:r>
            <a:endParaRPr b="0" lang="en-US" sz="2000" spc="-1" strike="noStrike">
              <a:solidFill>
                <a:srgbClr val="000000"/>
              </a:solidFill>
              <a:latin typeface="Lucida Sans Unicode"/>
            </a:endParaRPr>
          </a:p>
        </p:txBody>
      </p:sp>
      <p:sp>
        <p:nvSpPr>
          <p:cNvPr id="41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BB27-C6D1-42A0-94BF-4B6CCADFAE4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 descr=""/>
          <p:cNvPicPr/>
          <p:nvPr/>
        </p:nvPicPr>
        <p:blipFill>
          <a:blip r:embed="rId1"/>
          <a:stretch/>
        </p:blipFill>
        <p:spPr>
          <a:xfrm>
            <a:off x="457200" y="1481040"/>
            <a:ext cx="8229600" cy="4525920"/>
          </a:xfrm>
          <a:prstGeom prst="rect">
            <a:avLst/>
          </a:prstGeom>
          <a:ln w="0">
            <a:noFill/>
          </a:ln>
        </p:spPr>
      </p:pic>
      <p:sp>
        <p:nvSpPr>
          <p:cNvPr id="41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DF84-3B08-456B-8DC9-605A0AF9389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6" name="Rectangle 2" descr=""/>
          <p:cNvPicPr/>
          <p:nvPr/>
        </p:nvPicPr>
        <p:blipFill>
          <a:blip r:embed="rId2"/>
          <a:stretch/>
        </p:blipFill>
        <p:spPr>
          <a:xfrm>
            <a:off x="201600" y="274680"/>
            <a:ext cx="8485200" cy="1243080"/>
          </a:xfrm>
          <a:prstGeom prst="rect">
            <a:avLst/>
          </a:prstGeom>
          <a:ln w="0">
            <a:noFill/>
          </a:ln>
        </p:spPr>
      </p:pic>
      <p:pic>
        <p:nvPicPr>
          <p:cNvPr id="417" name="Picture 4" descr="mvc"/>
          <p:cNvPicPr/>
          <p:nvPr/>
        </p:nvPicPr>
        <p:blipFill>
          <a:blip r:embed="rId3"/>
          <a:stretch/>
        </p:blipFill>
        <p:spPr>
          <a:xfrm>
            <a:off x="2195640" y="1628640"/>
            <a:ext cx="476244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lIns="90000" rIns="90000" tIns="46800" bIns="46800" anchor="t">
            <a:normAutofit/>
          </a:bodyPr>
          <a:p>
            <a:pPr marL="457200" indent="-457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 goal is maximum performance, capability, and flexibility in the smallest, lightest possible package</a:t>
            </a:r>
            <a:endParaRPr b="0" lang="en-US" sz="2800" spc="-1" strike="noStrike">
              <a:solidFill>
                <a:srgbClr val="000000"/>
              </a:solidFill>
              <a:latin typeface="Lucida Sans Unicode"/>
            </a:endParaRPr>
          </a:p>
          <a:p>
            <a:pPr lvl="1" marL="838080" indent="-3808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ynamic Instantiation</a:t>
            </a:r>
            <a:endParaRPr b="0" lang="en-US" sz="2400" spc="-1" strike="noStrike">
              <a:solidFill>
                <a:srgbClr val="000000"/>
              </a:solidFill>
              <a:latin typeface="Lucida Sans Unicode"/>
            </a:endParaRPr>
          </a:p>
          <a:p>
            <a:pPr lvl="2" marL="1257480" indent="-34308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onents are loaded and routines executed only when requested, rather than globally</a:t>
            </a:r>
            <a:endParaRPr b="0" lang="en-US" sz="2000" spc="-1" strike="noStrike">
              <a:solidFill>
                <a:srgbClr val="000000"/>
              </a:solidFill>
              <a:latin typeface="Lucida Sans Unicode"/>
            </a:endParaRPr>
          </a:p>
          <a:p>
            <a:pPr lvl="1" marL="838080" indent="-3808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oose Coupling</a:t>
            </a:r>
            <a:endParaRPr b="0" lang="en-US" sz="2400" spc="-1" strike="noStrike">
              <a:solidFill>
                <a:srgbClr val="000000"/>
              </a:solidFill>
              <a:latin typeface="Lucida Sans Unicode"/>
            </a:endParaRPr>
          </a:p>
          <a:p>
            <a:pPr lvl="2" marL="1257480" indent="-34308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less components depend on each other the more reusable and flexible the system becomes</a:t>
            </a:r>
            <a:endParaRPr b="0" lang="en-US" sz="2000" spc="-1" strike="noStrike">
              <a:solidFill>
                <a:srgbClr val="000000"/>
              </a:solidFill>
              <a:latin typeface="Lucida Sans Unicode"/>
            </a:endParaRPr>
          </a:p>
          <a:p>
            <a:pPr lvl="1" marL="838080" indent="-3808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onent Singularity</a:t>
            </a:r>
            <a:endParaRPr b="0" lang="en-US" sz="2400" spc="-1" strike="noStrike">
              <a:solidFill>
                <a:srgbClr val="000000"/>
              </a:solidFill>
              <a:latin typeface="Lucida Sans Unicode"/>
            </a:endParaRPr>
          </a:p>
          <a:p>
            <a:pPr lvl="2" marL="1257480" indent="-34308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ach class and its functions are highly autonomous in order to allow maximum usefulness</a:t>
            </a:r>
            <a:endParaRPr b="0" lang="en-US" sz="2000" spc="-1" strike="noStrike">
              <a:solidFill>
                <a:srgbClr val="000000"/>
              </a:solidFill>
              <a:latin typeface="Lucida Sans Unicode"/>
            </a:endParaRPr>
          </a:p>
          <a:p>
            <a:pPr lvl="1" marL="838080" indent="-3808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1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B96C-C6D6-45CC-9523-FD755479AF5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0" name="Rectangle 2"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689040" y="1755720"/>
            <a:ext cx="8265960" cy="2200320"/>
          </a:xfrm>
          <a:prstGeom prst="rect">
            <a:avLst/>
          </a:prstGeom>
          <a:ln w="0">
            <a:noFill/>
          </a:ln>
        </p:spPr>
      </p:pic>
      <p:sp>
        <p:nvSpPr>
          <p:cNvPr id="42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
        <p:nvSpPr>
          <p:cNvPr id="423" name="Rectangle 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E857-9EA2-4CE2-BF14-775528DC73B3}"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roller is simply a class file that is named in a way that can be associated with a URI</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calhost/index.php/hello/</a:t>
            </a:r>
            <a:endParaRPr b="0" lang="en-US" sz="2300" spc="-1" strike="noStrike">
              <a:solidFill>
                <a:srgbClr val="000000"/>
              </a:solidFill>
              <a:latin typeface="Lucida Sans Unicode"/>
            </a:endParaRPr>
          </a:p>
        </p:txBody>
      </p:sp>
      <p:sp>
        <p:nvSpPr>
          <p:cNvPr id="42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35D5-78AB-4E99-8842-46A1D86F599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6" name="Rectangle 2" descr=""/>
          <p:cNvPicPr/>
          <p:nvPr/>
        </p:nvPicPr>
        <p:blipFill>
          <a:blip r:embed="rId1"/>
          <a:stretch/>
        </p:blipFill>
        <p:spPr>
          <a:xfrm>
            <a:off x="201600" y="274680"/>
            <a:ext cx="8485200" cy="1243080"/>
          </a:xfrm>
          <a:prstGeom prst="rect">
            <a:avLst/>
          </a:prstGeom>
          <a:ln w="0">
            <a:noFill/>
          </a:ln>
        </p:spPr>
      </p:pic>
      <p:sp>
        <p:nvSpPr>
          <p:cNvPr id="427" name="Text Box 4"/>
          <p:cNvSpPr/>
          <p:nvPr/>
        </p:nvSpPr>
        <p:spPr>
          <a:xfrm>
            <a:off x="2859840" y="3573360"/>
            <a:ext cx="4078800" cy="2560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lt;?php</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lass Hello extends Controller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function index()</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	</a:t>
            </a:r>
            <a:r>
              <a:rPr b="0" lang="en-US" sz="1800" spc="-1" strike="noStrike">
                <a:solidFill>
                  <a:srgbClr val="ffffff"/>
                </a:solidFill>
                <a:latin typeface="Lucida Sans Unicode"/>
              </a:rPr>
              <a:t>echo 'Hello Worl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g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n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unction can be add to the controller and called by the URI segm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calhost/index.php/hello/</a:t>
            </a:r>
            <a:r>
              <a:rPr b="0" lang="en-US" sz="2100" spc="-1" strike="noStrike">
                <a:solidFill>
                  <a:srgbClr val="ffffff"/>
                </a:solidFill>
                <a:latin typeface="Lucida Sans Unicode"/>
              </a:rPr>
              <a:t>index</a:t>
            </a:r>
            <a:endParaRPr b="0" lang="en-US" sz="2100" spc="-1" strike="noStrike">
              <a:solidFill>
                <a:srgbClr val="000000"/>
              </a:solidFill>
              <a:latin typeface="Lucida Sans Unicode"/>
            </a:endParaRPr>
          </a:p>
        </p:txBody>
      </p:sp>
      <p:sp>
        <p:nvSpPr>
          <p:cNvPr id="42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100F-A1CA-4081-87E0-03D324F0DDF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ew is simply a web page, or a page fragment, like a header, footer, sidebar, etc.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iews can flexibly be embedded within other views (within other views, etc., etc.)</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iews are never called directly, they must be loaded by a controller</a:t>
            </a:r>
            <a:endParaRPr b="0" lang="en-US" sz="2300" spc="-1" strike="noStrike">
              <a:solidFill>
                <a:srgbClr val="000000"/>
              </a:solidFill>
              <a:latin typeface="Lucida Sans Unicode"/>
            </a:endParaRPr>
          </a:p>
        </p:txBody>
      </p:sp>
      <p:sp>
        <p:nvSpPr>
          <p:cNvPr id="43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2F0E-B706-4F49-98EF-C2A38FDE709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ading a Vie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view('nam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ame is the name of your view file</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he .php file extension does not need to be specified unless you use something other than .php.</a:t>
            </a:r>
            <a:endParaRPr b="0" lang="en-US" sz="1900" spc="-1" strike="noStrike">
              <a:solidFill>
                <a:srgbClr val="000000"/>
              </a:solidFill>
              <a:latin typeface="Lucida Sans Unicode"/>
            </a:endParaRPr>
          </a:p>
        </p:txBody>
      </p:sp>
      <p:sp>
        <p:nvSpPr>
          <p:cNvPr id="43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899C-6335-4C8D-9CB0-6C63D549B9C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6"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derstanding about How to Working with Server Side Scripting using PHP Framework (CodeIgniter)</a:t>
            </a:r>
            <a:endParaRPr b="0" lang="en-US" sz="2700" spc="-1" strike="noStrike">
              <a:solidFill>
                <a:srgbClr val="000000"/>
              </a:solidFill>
              <a:latin typeface="Lucida Sans Unicode"/>
            </a:endParaRPr>
          </a:p>
        </p:txBody>
      </p:sp>
      <p:sp>
        <p:nvSpPr>
          <p:cNvPr id="38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E826-FB88-4852-B32B-B08A78D2756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2"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ding Dynamic Data to the Vie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is passed from the controller to the view by way of an array or an object in the second parameter of the view loading function</a:t>
            </a:r>
            <a:endParaRPr b="0" lang="en-US" sz="2300" spc="-1" strike="noStrike">
              <a:solidFill>
                <a:srgbClr val="000000"/>
              </a:solidFill>
              <a:latin typeface="Lucida Sans Unicode"/>
            </a:endParaRPr>
          </a:p>
        </p:txBody>
      </p:sp>
      <p:sp>
        <p:nvSpPr>
          <p:cNvPr id="43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9CBB-B61E-432D-A555-020ECBD4F3E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9" name="Rectangle 2" descr=""/>
          <p:cNvPicPr/>
          <p:nvPr/>
        </p:nvPicPr>
        <p:blipFill>
          <a:blip r:embed="rId1"/>
          <a:stretch/>
        </p:blipFill>
        <p:spPr>
          <a:xfrm>
            <a:off x="201600" y="274680"/>
            <a:ext cx="8485200" cy="1243080"/>
          </a:xfrm>
          <a:prstGeom prst="rect">
            <a:avLst/>
          </a:prstGeom>
          <a:ln w="0">
            <a:noFill/>
          </a:ln>
        </p:spPr>
      </p:pic>
      <p:sp>
        <p:nvSpPr>
          <p:cNvPr id="440" name="Text Box 4"/>
          <p:cNvSpPr/>
          <p:nvPr/>
        </p:nvSpPr>
        <p:spPr>
          <a:xfrm>
            <a:off x="182160" y="4005360"/>
            <a:ext cx="4062240" cy="2012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ata = arra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title' =&gt; 'My Titl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heading' =&gt; 'My Head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message' =&gt; 'My Messag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gt;load-&gt;view('blogview', $data);</a:t>
            </a:r>
            <a:endParaRPr b="0" lang="en-US" sz="1800" spc="-1" strike="noStrike">
              <a:solidFill>
                <a:srgbClr val="000000"/>
              </a:solidFill>
              <a:latin typeface="Lucida Sans Unicode"/>
            </a:endParaRPr>
          </a:p>
        </p:txBody>
      </p:sp>
      <p:sp>
        <p:nvSpPr>
          <p:cNvPr id="441" name="Text Box 5"/>
          <p:cNvSpPr/>
          <p:nvPr/>
        </p:nvSpPr>
        <p:spPr>
          <a:xfrm>
            <a:off x="3523320" y="3809880"/>
            <a:ext cx="4847040" cy="2560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html&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head&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title&gt;&lt;?php echo $title;?&gt;&lt;/title&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head&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body&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	</a:t>
            </a:r>
            <a:r>
              <a:rPr b="0" lang="en-US" sz="1800" spc="-1" strike="noStrike">
                <a:solidFill>
                  <a:srgbClr val="990000"/>
                </a:solidFill>
                <a:latin typeface="Lucida Sans Unicode"/>
              </a:rPr>
              <a:t>&lt;h1&gt;&lt;?php echo $heading;?&gt;&lt;/h1&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	</a:t>
            </a:r>
            <a:r>
              <a:rPr b="0" lang="en-US" sz="1800" spc="-1" strike="noStrike">
                <a:solidFill>
                  <a:srgbClr val="990000"/>
                </a:solidFill>
                <a:latin typeface="Lucida Sans Unicode"/>
              </a:rPr>
              <a:t>&lt;p&gt;&lt;?php echo $message;?&gt;&lt;/p&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body&g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Lucida Sans Unicode"/>
              </a:rPr>
              <a:t>&lt;/html&gt;</a:t>
            </a:r>
            <a:endParaRPr b="0" lang="en-US" sz="1800" spc="-1" strike="noStrike">
              <a:solidFill>
                <a:srgbClr val="000000"/>
              </a:solidFill>
              <a:latin typeface="Lucida Sans Unicode"/>
            </a:endParaRPr>
          </a:p>
        </p:txBody>
      </p:sp>
      <p:sp>
        <p:nvSpPr>
          <p:cNvPr id="442" name="AutoShape 6"/>
          <p:cNvSpPr/>
          <p:nvPr/>
        </p:nvSpPr>
        <p:spPr>
          <a:xfrm>
            <a:off x="3733920" y="5257800"/>
            <a:ext cx="792000" cy="360360"/>
          </a:xfrm>
          <a:prstGeom prst="rightArrow">
            <a:avLst>
              <a:gd name="adj1" fmla="val 50000"/>
              <a:gd name="adj2" fmla="val 54945"/>
            </a:avLst>
          </a:prstGeom>
          <a:solidFill>
            <a:srgbClr val="2da2b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dels are PHP classes that are designed to work with information in a databa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model('Model_name');</a:t>
            </a:r>
            <a:endParaRPr b="0" lang="en-US" sz="2300" spc="-1" strike="noStrike">
              <a:solidFill>
                <a:srgbClr val="000000"/>
              </a:solidFill>
              <a:latin typeface="Lucida Sans Unicode"/>
            </a:endParaRPr>
          </a:p>
        </p:txBody>
      </p:sp>
      <p:sp>
        <p:nvSpPr>
          <p:cNvPr id="44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9825-6951-469F-876B-6F12DAE35E2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5" name="Rectangle 2" descr=""/>
          <p:cNvPicPr/>
          <p:nvPr/>
        </p:nvPicPr>
        <p:blipFill>
          <a:blip r:embed="rId1"/>
          <a:stretch/>
        </p:blipFill>
        <p:spPr>
          <a:xfrm>
            <a:off x="201600" y="274680"/>
            <a:ext cx="8485200" cy="1243080"/>
          </a:xfrm>
          <a:prstGeom prst="rect">
            <a:avLst/>
          </a:prstGeom>
          <a:ln w="0">
            <a:noFill/>
          </a:ln>
        </p:spPr>
      </p:pic>
      <p:sp>
        <p:nvSpPr>
          <p:cNvPr id="446" name="Text Box 4"/>
          <p:cNvSpPr/>
          <p:nvPr/>
        </p:nvSpPr>
        <p:spPr>
          <a:xfrm>
            <a:off x="2473560" y="3860640"/>
            <a:ext cx="3943440" cy="2012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lass Model_name extends Model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function Model_nam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parent::Model();</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lpers help us with task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ch helper file is simply a collection of functions in a particular categor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RL Helpers, that assist in creating links,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orm Helpers that help to create form elements,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xt Helpers perform various text formatting routine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okie Helpers set and read cookies,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ile Helpers help to deal with file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c</a:t>
            </a:r>
            <a:endParaRPr b="0" lang="en-US" sz="2100" spc="-1" strike="noStrike">
              <a:solidFill>
                <a:srgbClr val="000000"/>
              </a:solidFill>
              <a:latin typeface="Lucida Sans Unicode"/>
            </a:endParaRPr>
          </a:p>
        </p:txBody>
      </p:sp>
      <p:sp>
        <p:nvSpPr>
          <p:cNvPr id="44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196D-8134-4E02-8350-4FEFCFBA256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ading a Help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helper('na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helper( array('helper1', 'helper2', 'helper3') );</a:t>
            </a:r>
            <a:endParaRPr b="0" lang="en-US" sz="2300" spc="-1" strike="noStrike">
              <a:solidFill>
                <a:srgbClr val="000000"/>
              </a:solidFill>
              <a:latin typeface="Lucida Sans Unicode"/>
            </a:endParaRPr>
          </a:p>
        </p:txBody>
      </p:sp>
      <p:sp>
        <p:nvSpPr>
          <p:cNvPr id="45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D057-8768-4B0D-BE42-BD923DDBE06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2"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ugins work almost identically to Help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main difference is that a plugin usually provides a single function, whereas a Helper is usually a collection of funct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elpers are also considered a part of the core system; plugins are intended to be created and shared by the community</a:t>
            </a:r>
            <a:endParaRPr b="0" lang="en-US" sz="2300" spc="-1" strike="noStrike">
              <a:solidFill>
                <a:srgbClr val="000000"/>
              </a:solidFill>
              <a:latin typeface="Lucida Sans Unicode"/>
            </a:endParaRPr>
          </a:p>
        </p:txBody>
      </p:sp>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45DF-52A8-4419-A8B2-0FD98CE5264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ading Plugin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plugin('na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load-&gt;plugin( array('plugin1', 'plugin2', 'plugin3') );</a:t>
            </a:r>
            <a:endParaRPr b="0" lang="en-US" sz="2300" spc="-1" strike="noStrike">
              <a:solidFill>
                <a:srgbClr val="000000"/>
              </a:solidFill>
              <a:latin typeface="Lucida Sans Unicode"/>
            </a:endParaRPr>
          </a:p>
        </p:txBody>
      </p:sp>
      <p:sp>
        <p:nvSpPr>
          <p:cNvPr id="45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3C9D-CDA0-4048-9CA4-E066EB65153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689040" y="1755720"/>
            <a:ext cx="8253360" cy="2200320"/>
          </a:xfrm>
          <a:prstGeom prst="rect">
            <a:avLst/>
          </a:prstGeom>
          <a:ln w="0">
            <a:noFill/>
          </a:ln>
        </p:spPr>
      </p:pic>
      <p:sp>
        <p:nvSpPr>
          <p:cNvPr id="460"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
        <p:nvSpPr>
          <p:cNvPr id="461" name="Rectangle 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025A-149B-4285-9AFE-C94C8B2D559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deIgniter has a config file that lets to store database connection values (username, password, database name, etc.)</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pplication/config/database.php</a:t>
            </a:r>
            <a:endParaRPr b="0" lang="en-US" sz="2300" spc="-1" strike="noStrike">
              <a:solidFill>
                <a:srgbClr val="000000"/>
              </a:solidFill>
              <a:latin typeface="Lucida Sans Unicode"/>
            </a:endParaRPr>
          </a:p>
        </p:txBody>
      </p:sp>
      <p:sp>
        <p:nvSpPr>
          <p:cNvPr id="46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B956-B13C-471D-9BC7-FC5528830CF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4"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tive Recor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ctive Record Class is globally enabled or disabled by setting the $active_record variable in the database configuration file to TRUE/FALSE (boolea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the active record class not used, setting it to FALSE will utilize fewer resources when the database classes are initialized</a:t>
            </a:r>
            <a:endParaRPr b="0" lang="en-US" sz="2100" spc="-1" strike="noStrike">
              <a:solidFill>
                <a:srgbClr val="000000"/>
              </a:solidFill>
              <a:latin typeface="Lucida Sans Unicode"/>
            </a:endParaRPr>
          </a:p>
        </p:txBody>
      </p:sp>
      <p:sp>
        <p:nvSpPr>
          <p:cNvPr id="46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BBB5-9D6E-4927-9631-CF6C849989D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ways to connect to a databa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utomatically Connecting</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auto connect" feature will load and instantiate the database class with every page load</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enable "auto connecting", add the word database to the library array, as indicated in the following file </a:t>
            </a:r>
            <a:r>
              <a:rPr b="1" lang="en-US" sz="2100" spc="-1" strike="noStrike">
                <a:solidFill>
                  <a:srgbClr val="000000"/>
                </a:solidFill>
                <a:latin typeface="Lucida Sans Unicode"/>
              </a:rPr>
              <a:t>application/config/autoload.php</a:t>
            </a:r>
            <a:endParaRPr b="0" lang="en-US" sz="2100" spc="-1" strike="noStrike">
              <a:solidFill>
                <a:srgbClr val="000000"/>
              </a:solidFill>
              <a:latin typeface="Lucida Sans Unicode"/>
            </a:endParaRPr>
          </a:p>
        </p:txBody>
      </p:sp>
      <p:sp>
        <p:nvSpPr>
          <p:cNvPr id="46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738B-78D6-4DAB-83C2-BF4C5AC6290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 to CodeIgniter (C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tructures of CI Websi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ing CI to Simplify Databases</a:t>
            </a:r>
            <a:endParaRPr b="0" lang="en-US" sz="2700" spc="-1" strike="noStrike">
              <a:solidFill>
                <a:srgbClr val="000000"/>
              </a:solidFill>
              <a:latin typeface="Lucida Sans Unicode"/>
            </a:endParaRPr>
          </a:p>
        </p:txBody>
      </p:sp>
      <p:sp>
        <p:nvSpPr>
          <p:cNvPr id="38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65E9-FAF6-4518-91AA-4C5BC323530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ways to connect to a databa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ually Connecting</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only some of the pages require database connectivity it can be manually connect to the database by adding this line of code in any function where it is needed, or in the class constructor to make the database available globally in that class</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his-&gt;load-&gt;database();</a:t>
            </a:r>
            <a:endParaRPr b="0" lang="en-US" sz="1900" spc="-1" strike="noStrike">
              <a:solidFill>
                <a:srgbClr val="000000"/>
              </a:solidFill>
              <a:latin typeface="Lucida Sans Unicode"/>
            </a:endParaRPr>
          </a:p>
        </p:txBody>
      </p:sp>
      <p:sp>
        <p:nvSpPr>
          <p:cNvPr id="47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908F-3F45-4803-84A2-61B22F990D1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submit a query, use the following fun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query('YOUR QUERY HE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query() function returns a database result object when "read" type queries are run</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simple_quer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simplified version of the $this-&gt;db-&gt;query() function</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t ONLY returns TRUE/FALSE on success or failure</a:t>
            </a:r>
            <a:endParaRPr b="0" lang="en-US" sz="2100" spc="-1" strike="noStrike">
              <a:solidFill>
                <a:srgbClr val="000000"/>
              </a:solidFill>
              <a:latin typeface="Lucida Sans Unicode"/>
            </a:endParaRPr>
          </a:p>
        </p:txBody>
      </p:sp>
      <p:sp>
        <p:nvSpPr>
          <p:cNvPr id="47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08B1-DBF1-4B7A-BE0E-BDFFD537B47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6"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ry Binding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indings enable to simplify query syntax by letting the system put the queries together</a:t>
            </a:r>
            <a:endParaRPr b="0" lang="en-US" sz="2300" spc="-1" strike="noStrike">
              <a:solidFill>
                <a:srgbClr val="000000"/>
              </a:solidFill>
              <a:latin typeface="Lucida Sans Unicode"/>
            </a:endParaRPr>
          </a:p>
        </p:txBody>
      </p:sp>
      <p:sp>
        <p:nvSpPr>
          <p:cNvPr id="4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7FA0-A037-4D55-A521-67FBF68A5DA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9" name="Rectangle 2" descr=""/>
          <p:cNvPicPr/>
          <p:nvPr/>
        </p:nvPicPr>
        <p:blipFill>
          <a:blip r:embed="rId1"/>
          <a:stretch/>
        </p:blipFill>
        <p:spPr>
          <a:xfrm>
            <a:off x="201600" y="274680"/>
            <a:ext cx="8485200" cy="1243080"/>
          </a:xfrm>
          <a:prstGeom prst="rect">
            <a:avLst/>
          </a:prstGeom>
          <a:ln w="0">
            <a:noFill/>
          </a:ln>
        </p:spPr>
      </p:pic>
      <p:sp>
        <p:nvSpPr>
          <p:cNvPr id="480" name="Text Box 4"/>
          <p:cNvSpPr/>
          <p:nvPr/>
        </p:nvSpPr>
        <p:spPr>
          <a:xfrm>
            <a:off x="803520" y="3789360"/>
            <a:ext cx="784476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ql = "SELECT * FROM some_table WHERE id = ? AND status = ? AND author = ?";</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is-&gt;db-&gt;query($sql, array(3, 'live', 'Rick')); </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ul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function returns the query result as an array of objects, or an empty array on failure</a:t>
            </a:r>
            <a:endParaRPr b="0" lang="en-US" sz="2300" spc="-1" strike="noStrike">
              <a:solidFill>
                <a:srgbClr val="000000"/>
              </a:solidFill>
              <a:latin typeface="Lucida Sans Unicode"/>
            </a:endParaRPr>
          </a:p>
        </p:txBody>
      </p:sp>
      <p:sp>
        <p:nvSpPr>
          <p:cNvPr id="48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0609-6929-4B6F-8D67-F452EE55F86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3" name="Rectangle 2" descr=""/>
          <p:cNvPicPr/>
          <p:nvPr/>
        </p:nvPicPr>
        <p:blipFill>
          <a:blip r:embed="rId1"/>
          <a:stretch/>
        </p:blipFill>
        <p:spPr>
          <a:xfrm>
            <a:off x="201600" y="274680"/>
            <a:ext cx="8485200" cy="1243080"/>
          </a:xfrm>
          <a:prstGeom prst="rect">
            <a:avLst/>
          </a:prstGeom>
          <a:ln w="0">
            <a:noFill/>
          </a:ln>
        </p:spPr>
      </p:pic>
      <p:sp>
        <p:nvSpPr>
          <p:cNvPr id="484" name="Text Box 4"/>
          <p:cNvSpPr/>
          <p:nvPr/>
        </p:nvSpPr>
        <p:spPr>
          <a:xfrm>
            <a:off x="2534040" y="3573360"/>
            <a:ext cx="4828680" cy="228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query = $this-&gt;db-&gt;query("YOUR QUER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foreach ($query-&gt;result() as $row)</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gt;titl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gt;nam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gt;bod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ult_arr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function returns the query result as a pure array, or an empty array when no result is produced</a:t>
            </a:r>
            <a:endParaRPr b="0" lang="en-US" sz="2300" spc="-1" strike="noStrike">
              <a:solidFill>
                <a:srgbClr val="000000"/>
              </a:solidFill>
              <a:latin typeface="Lucida Sans Unicode"/>
            </a:endParaRPr>
          </a:p>
        </p:txBody>
      </p:sp>
      <p:sp>
        <p:nvSpPr>
          <p:cNvPr id="48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7501-1037-4C8F-9600-E153472C30A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7" name="Rectangle 2" descr=""/>
          <p:cNvPicPr/>
          <p:nvPr/>
        </p:nvPicPr>
        <p:blipFill>
          <a:blip r:embed="rId1"/>
          <a:stretch/>
        </p:blipFill>
        <p:spPr>
          <a:xfrm>
            <a:off x="201600" y="274680"/>
            <a:ext cx="8485200" cy="1243080"/>
          </a:xfrm>
          <a:prstGeom prst="rect">
            <a:avLst/>
          </a:prstGeom>
          <a:ln w="0">
            <a:noFill/>
          </a:ln>
        </p:spPr>
      </p:pic>
      <p:sp>
        <p:nvSpPr>
          <p:cNvPr id="488" name="Text Box 4"/>
          <p:cNvSpPr/>
          <p:nvPr/>
        </p:nvSpPr>
        <p:spPr>
          <a:xfrm>
            <a:off x="2749680" y="3789360"/>
            <a:ext cx="4828680" cy="228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query = $this-&gt;db-&gt;query("YOUR QUER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foreach ($query-&gt;result_array() as $row)</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titl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nam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a:t>
            </a:r>
            <a:r>
              <a:rPr b="0" lang="en-US" sz="1800" spc="-1" strike="noStrike">
                <a:solidFill>
                  <a:srgbClr val="ffffff"/>
                </a:solidFill>
                <a:latin typeface="Lucida Sans Unicode"/>
              </a:rPr>
              <a:t>echo $row['bod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o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function returns a single result row</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the query has more than one row, it returns only the first row (the result is returned as an object)</a:t>
            </a:r>
            <a:endParaRPr b="0" lang="en-US" sz="2100" spc="-1" strike="noStrike">
              <a:solidFill>
                <a:srgbClr val="000000"/>
              </a:solidFill>
              <a:latin typeface="Lucida Sans Unicode"/>
            </a:endParaRPr>
          </a:p>
        </p:txBody>
      </p:sp>
      <p:sp>
        <p:nvSpPr>
          <p:cNvPr id="4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CE47-E097-4B7F-A8D6-3B23AC66922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1" name="Rectangle 2" descr=""/>
          <p:cNvPicPr/>
          <p:nvPr/>
        </p:nvPicPr>
        <p:blipFill>
          <a:blip r:embed="rId1"/>
          <a:stretch/>
        </p:blipFill>
        <p:spPr>
          <a:xfrm>
            <a:off x="201600" y="274680"/>
            <a:ext cx="8485200" cy="1243080"/>
          </a:xfrm>
          <a:prstGeom prst="rect">
            <a:avLst/>
          </a:prstGeom>
          <a:ln w="0">
            <a:noFill/>
          </a:ln>
        </p:spPr>
      </p:pic>
      <p:sp>
        <p:nvSpPr>
          <p:cNvPr id="492" name="Text Box 4"/>
          <p:cNvSpPr/>
          <p:nvPr/>
        </p:nvSpPr>
        <p:spPr>
          <a:xfrm>
            <a:off x="3035880" y="3933720"/>
            <a:ext cx="3803040" cy="22230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query = $this-&gt;db-&gt;query("YOUR QUERY");</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if ($query-&gt;num_rows() &gt; 0)</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row = $query-&gt;row();</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echo $row-&gt;titl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echo $row-&gt;nam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echo $row-&gt;body;</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ow_arr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ntical to the above row() function, except it returns an array</a:t>
            </a:r>
            <a:endParaRPr b="0" lang="en-US" sz="2300" spc="-1" strike="noStrike">
              <a:solidFill>
                <a:srgbClr val="000000"/>
              </a:solidFill>
              <a:latin typeface="Lucida Sans Unicode"/>
            </a:endParaRPr>
          </a:p>
        </p:txBody>
      </p:sp>
      <p:sp>
        <p:nvSpPr>
          <p:cNvPr id="4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8EFC-434E-4B75-A4BF-3659B0AAE46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5" name="Rectangle 2" descr=""/>
          <p:cNvPicPr/>
          <p:nvPr/>
        </p:nvPicPr>
        <p:blipFill>
          <a:blip r:embed="rId1"/>
          <a:stretch/>
        </p:blipFill>
        <p:spPr>
          <a:xfrm>
            <a:off x="201600" y="274680"/>
            <a:ext cx="8485200" cy="1243080"/>
          </a:xfrm>
          <a:prstGeom prst="rect">
            <a:avLst/>
          </a:prstGeom>
          <a:ln w="0">
            <a:noFill/>
          </a:ln>
        </p:spPr>
      </p:pic>
      <p:sp>
        <p:nvSpPr>
          <p:cNvPr id="496" name="Text Box 4"/>
          <p:cNvSpPr/>
          <p:nvPr/>
        </p:nvSpPr>
        <p:spPr>
          <a:xfrm>
            <a:off x="2686320" y="3546360"/>
            <a:ext cx="4303080" cy="2525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query = $this-&gt;db-&gt;query("YOUR QUERY");</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if ($query-&gt;num_rows() &gt; 0)</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row = $query-&gt;row_array();</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echo $row['titl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echo $row['nam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echo $row['body'];</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deIgniter uses a modified version of the Active Record Database Patter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pattern allows information to be retrieved, inserted, and updated in your database with minimal scrip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deIgniter does not require that each database table be its own class file</a:t>
            </a:r>
            <a:endParaRPr b="0" lang="en-US" sz="2300" spc="-1" strike="noStrike">
              <a:solidFill>
                <a:srgbClr val="000000"/>
              </a:solidFill>
              <a:latin typeface="Lucida Sans Unicode"/>
            </a:endParaRPr>
          </a:p>
        </p:txBody>
      </p:sp>
      <p:sp>
        <p:nvSpPr>
          <p:cNvPr id="49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29AB-68BF-4F53-BFBB-6417FF9976B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ge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uns the selection query and returns the result. </a:t>
            </a:r>
            <a:endParaRPr b="0" lang="en-US" sz="2100" spc="-1" strike="noStrike">
              <a:solidFill>
                <a:srgbClr val="000000"/>
              </a:solidFill>
              <a:latin typeface="Lucida Sans Unicode"/>
            </a:endParaRPr>
          </a:p>
        </p:txBody>
      </p:sp>
      <p:sp>
        <p:nvSpPr>
          <p:cNvPr id="5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E709-835F-4C55-AECB-F868FB714D0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2" name="Rectangle 2" descr=""/>
          <p:cNvPicPr/>
          <p:nvPr/>
        </p:nvPicPr>
        <p:blipFill>
          <a:blip r:embed="rId1"/>
          <a:stretch/>
        </p:blipFill>
        <p:spPr>
          <a:xfrm>
            <a:off x="201600" y="274680"/>
            <a:ext cx="8485200" cy="1243080"/>
          </a:xfrm>
          <a:prstGeom prst="rect">
            <a:avLst/>
          </a:prstGeom>
          <a:ln w="0">
            <a:noFill/>
          </a:ln>
        </p:spPr>
      </p:pic>
      <p:sp>
        <p:nvSpPr>
          <p:cNvPr id="503" name="Text Box 4"/>
          <p:cNvSpPr/>
          <p:nvPr/>
        </p:nvSpPr>
        <p:spPr>
          <a:xfrm>
            <a:off x="1335960" y="3757680"/>
            <a:ext cx="5892480" cy="2038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query = $this-&gt;db-&gt;get('mytabl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Produces: SELECT * FROM mytabl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query = $this-&gt;db-&gt;get('mytable', 10, 20);</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Produces: SELECT * FROM mytable LIMIT 20, 10 </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in MySQL. Other databases have slightly different syntax)</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get_whe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dentical to the get() function except that it permits you to add a "where" clause in the second parameter, instead of using the db-&gt;where() function</a:t>
            </a:r>
            <a:endParaRPr b="0" lang="en-US" sz="2100" spc="-1" strike="noStrike">
              <a:solidFill>
                <a:srgbClr val="000000"/>
              </a:solidFill>
              <a:latin typeface="Lucida Sans Unicode"/>
            </a:endParaRPr>
          </a:p>
        </p:txBody>
      </p:sp>
      <p:sp>
        <p:nvSpPr>
          <p:cNvPr id="5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639A-A105-4387-9810-D1A9420AEE3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6" name="Rectangle 2" descr=""/>
          <p:cNvPicPr/>
          <p:nvPr/>
        </p:nvPicPr>
        <p:blipFill>
          <a:blip r:embed="rId1"/>
          <a:stretch/>
        </p:blipFill>
        <p:spPr>
          <a:xfrm>
            <a:off x="201600" y="274680"/>
            <a:ext cx="8485200" cy="1243080"/>
          </a:xfrm>
          <a:prstGeom prst="rect">
            <a:avLst/>
          </a:prstGeom>
          <a:ln w="0">
            <a:noFill/>
          </a:ln>
        </p:spPr>
      </p:pic>
      <p:sp>
        <p:nvSpPr>
          <p:cNvPr id="507" name="Text Box 4"/>
          <p:cNvSpPr/>
          <p:nvPr/>
        </p:nvSpPr>
        <p:spPr>
          <a:xfrm>
            <a:off x="1155960" y="4581360"/>
            <a:ext cx="723060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query = $this-&gt;db-&gt;get_where('mytable', array('id' =&gt; $id), $limit, $offset);</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689040" y="1755720"/>
            <a:ext cx="8272440" cy="2200320"/>
          </a:xfrm>
          <a:prstGeom prst="rect">
            <a:avLst/>
          </a:prstGeom>
          <a:ln w="0">
            <a:noFill/>
          </a:ln>
        </p:spPr>
      </p:pic>
      <p:sp>
        <p:nvSpPr>
          <p:cNvPr id="387"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
        <p:nvSpPr>
          <p:cNvPr id="388" name="Rectangle 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8C99-92E8-4D33-A21E-DD4B2DCE9E9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selec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ermits to write the SELECT portion of query</a:t>
            </a:r>
            <a:endParaRPr b="0" lang="en-US" sz="2100" spc="-1" strike="noStrike">
              <a:solidFill>
                <a:srgbClr val="000000"/>
              </a:solidFill>
              <a:latin typeface="Lucida Sans Unicode"/>
            </a:endParaRPr>
          </a:p>
        </p:txBody>
      </p:sp>
      <p:sp>
        <p:nvSpPr>
          <p:cNvPr id="5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276C-CC6E-4EB9-A631-C7A5768A525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10" name="Rectangle 2" descr=""/>
          <p:cNvPicPr/>
          <p:nvPr/>
        </p:nvPicPr>
        <p:blipFill>
          <a:blip r:embed="rId1"/>
          <a:stretch/>
        </p:blipFill>
        <p:spPr>
          <a:xfrm>
            <a:off x="201600" y="274680"/>
            <a:ext cx="8485200" cy="1243080"/>
          </a:xfrm>
          <a:prstGeom prst="rect">
            <a:avLst/>
          </a:prstGeom>
          <a:ln w="0">
            <a:noFill/>
          </a:ln>
        </p:spPr>
      </p:pic>
      <p:sp>
        <p:nvSpPr>
          <p:cNvPr id="511" name="Text Box 4"/>
          <p:cNvSpPr/>
          <p:nvPr/>
        </p:nvSpPr>
        <p:spPr>
          <a:xfrm>
            <a:off x="1854720" y="3933720"/>
            <a:ext cx="5308920" cy="1308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is-&gt;db-&gt;select('title, content, dat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query = $this-&gt;db-&gt;get('mytabl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Produces: SELECT title, content, date FROM mytable</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ser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inser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enerates an insert string based on the data you supply, and runs the query</a:t>
            </a:r>
            <a:endParaRPr b="0" lang="en-US" sz="2100" spc="-1" strike="noStrike">
              <a:solidFill>
                <a:srgbClr val="000000"/>
              </a:solidFill>
              <a:latin typeface="Lucida Sans Unicode"/>
            </a:endParaRPr>
          </a:p>
        </p:txBody>
      </p:sp>
      <p:sp>
        <p:nvSpPr>
          <p:cNvPr id="51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5903-5CF7-4DB9-AE63-00BBE6CB4EC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14" name="Rectangle 2" descr=""/>
          <p:cNvPicPr/>
          <p:nvPr/>
        </p:nvPicPr>
        <p:blipFill>
          <a:blip r:embed="rId1"/>
          <a:stretch/>
        </p:blipFill>
        <p:spPr>
          <a:xfrm>
            <a:off x="201600" y="274680"/>
            <a:ext cx="8485200" cy="1243080"/>
          </a:xfrm>
          <a:prstGeom prst="rect">
            <a:avLst/>
          </a:prstGeom>
          <a:ln w="0">
            <a:noFill/>
          </a:ln>
        </p:spPr>
      </p:pic>
      <p:sp>
        <p:nvSpPr>
          <p:cNvPr id="515" name="Text Box 4"/>
          <p:cNvSpPr/>
          <p:nvPr/>
        </p:nvSpPr>
        <p:spPr>
          <a:xfrm>
            <a:off x="61200" y="3800520"/>
            <a:ext cx="8970840" cy="2282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ata = array(</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title' =&gt; 'My title' ,</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name' =&gt; 'My Name' ,</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date' =&gt; 'My dat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is-&gt;db-&gt;insert('mytable', $data);</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Produces: INSERT INTO mytable (title, name, date) VALUES ('My title', 'My name', 'My date')</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ser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se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is function enables you to set values for inserts or updates</a:t>
            </a:r>
            <a:endParaRPr b="0" lang="en-US" sz="2100" spc="-1" strike="noStrike">
              <a:solidFill>
                <a:srgbClr val="000000"/>
              </a:solidFill>
              <a:latin typeface="Lucida Sans Unicode"/>
            </a:endParaRPr>
          </a:p>
        </p:txBody>
      </p:sp>
      <p:sp>
        <p:nvSpPr>
          <p:cNvPr id="51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9DF5-29F0-4516-A0DE-D9828733C4A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18" name="Rectangle 2" descr=""/>
          <p:cNvPicPr/>
          <p:nvPr/>
        </p:nvPicPr>
        <p:blipFill>
          <a:blip r:embed="rId1"/>
          <a:stretch/>
        </p:blipFill>
        <p:spPr>
          <a:xfrm>
            <a:off x="201600" y="274680"/>
            <a:ext cx="8485200" cy="1243080"/>
          </a:xfrm>
          <a:prstGeom prst="rect">
            <a:avLst/>
          </a:prstGeom>
          <a:ln w="0">
            <a:noFill/>
          </a:ln>
        </p:spPr>
      </p:pic>
      <p:sp>
        <p:nvSpPr>
          <p:cNvPr id="519" name="Text Box 4"/>
          <p:cNvSpPr/>
          <p:nvPr/>
        </p:nvSpPr>
        <p:spPr>
          <a:xfrm>
            <a:off x="1665000" y="4365720"/>
            <a:ext cx="6020640" cy="10652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is-&gt;db-&gt;set('name', $nam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is-&gt;db-&gt;insert('mytable');</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Produces: INSERT INTO mytable (name) VALUES ('{$name}')</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pda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updat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enerates an update string and runs the query based on the data you supply</a:t>
            </a:r>
            <a:endParaRPr b="0" lang="en-US" sz="2100" spc="-1" strike="noStrike">
              <a:solidFill>
                <a:srgbClr val="000000"/>
              </a:solidFill>
              <a:latin typeface="Lucida Sans Unicode"/>
            </a:endParaRPr>
          </a:p>
        </p:txBody>
      </p:sp>
      <p:sp>
        <p:nvSpPr>
          <p:cNvPr id="52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821B-B458-46A4-972B-982FFF66AD6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22" name="Rectangle 2" descr=""/>
          <p:cNvPicPr/>
          <p:nvPr/>
        </p:nvPicPr>
        <p:blipFill>
          <a:blip r:embed="rId1"/>
          <a:stretch/>
        </p:blipFill>
        <p:spPr>
          <a:xfrm>
            <a:off x="201600" y="274680"/>
            <a:ext cx="8485200" cy="1243080"/>
          </a:xfrm>
          <a:prstGeom prst="rect">
            <a:avLst/>
          </a:prstGeom>
          <a:ln w="0">
            <a:noFill/>
          </a:ln>
        </p:spPr>
      </p:pic>
      <p:sp>
        <p:nvSpPr>
          <p:cNvPr id="523" name="Text Box 4"/>
          <p:cNvSpPr/>
          <p:nvPr/>
        </p:nvSpPr>
        <p:spPr>
          <a:xfrm>
            <a:off x="1974240" y="3887640"/>
            <a:ext cx="6392520" cy="22230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ata = array(</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title' =&gt; $titl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name' =&gt; $nam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date' =&gt; $dat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r>
              <a:rPr b="0" lang="en-US" sz="1400" spc="-1" strike="noStrike">
                <a:solidFill>
                  <a:srgbClr val="ffffff"/>
                </a:solidFill>
                <a:latin typeface="Lucida Sans Unicode"/>
              </a:rPr>
              <a:t>);</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this-&gt;db-&gt;where('id', $id);</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this-&gt;db-&gt;update('mytable', $data);</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Produces:</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UPDATE mytable // SET title = '{$title}', name = '{$name}', date = '{$date}'</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WHERE id = $id</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e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delet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enerates a delete SQL string and runs the query</a:t>
            </a:r>
            <a:endParaRPr b="0" lang="en-US" sz="2100" spc="-1" strike="noStrike">
              <a:solidFill>
                <a:srgbClr val="000000"/>
              </a:solidFill>
              <a:latin typeface="Lucida Sans Unicode"/>
            </a:endParaRPr>
          </a:p>
        </p:txBody>
      </p:sp>
      <p:sp>
        <p:nvSpPr>
          <p:cNvPr id="52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CA3D-6F44-4BE5-8D3D-D473FC90E16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26" name="Rectangle 2" descr=""/>
          <p:cNvPicPr/>
          <p:nvPr/>
        </p:nvPicPr>
        <p:blipFill>
          <a:blip r:embed="rId1"/>
          <a:stretch/>
        </p:blipFill>
        <p:spPr>
          <a:xfrm>
            <a:off x="201600" y="274680"/>
            <a:ext cx="8485200" cy="1243080"/>
          </a:xfrm>
          <a:prstGeom prst="rect">
            <a:avLst/>
          </a:prstGeom>
          <a:ln w="0">
            <a:noFill/>
          </a:ln>
        </p:spPr>
      </p:pic>
      <p:sp>
        <p:nvSpPr>
          <p:cNvPr id="527" name="Text Box 4"/>
          <p:cNvSpPr/>
          <p:nvPr/>
        </p:nvSpPr>
        <p:spPr>
          <a:xfrm>
            <a:off x="2000160" y="3836880"/>
            <a:ext cx="5074200" cy="1463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gt;db-&gt;delete('mytable', array('id' =&gt; $i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Produce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DELETE FROM mytabl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WHERE id = $id</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eting Dat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gt;db-&gt;empty_tab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enerates a delete SQL string and runs the query</a:t>
            </a:r>
            <a:endParaRPr b="0" lang="en-US" sz="2100" spc="-1" strike="noStrike">
              <a:solidFill>
                <a:srgbClr val="000000"/>
              </a:solidFill>
              <a:latin typeface="Lucida Sans Unicode"/>
            </a:endParaRPr>
          </a:p>
        </p:txBody>
      </p:sp>
      <p:sp>
        <p:nvSpPr>
          <p:cNvPr id="52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EE00-3951-4C10-B14A-5E6B1C66722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30" name="Rectangle 2" descr=""/>
          <p:cNvPicPr/>
          <p:nvPr/>
        </p:nvPicPr>
        <p:blipFill>
          <a:blip r:embed="rId1"/>
          <a:stretch/>
        </p:blipFill>
        <p:spPr>
          <a:xfrm>
            <a:off x="201600" y="274680"/>
            <a:ext cx="8485200" cy="1243080"/>
          </a:xfrm>
          <a:prstGeom prst="rect">
            <a:avLst/>
          </a:prstGeom>
          <a:ln w="0">
            <a:noFill/>
          </a:ln>
        </p:spPr>
      </p:pic>
      <p:sp>
        <p:nvSpPr>
          <p:cNvPr id="531" name="Text Box 4"/>
          <p:cNvSpPr/>
          <p:nvPr/>
        </p:nvSpPr>
        <p:spPr>
          <a:xfrm>
            <a:off x="2020680" y="3836880"/>
            <a:ext cx="3893040" cy="1189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gt;db-&gt;empty_table('mytable');</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Produce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 DELETE FROM mytable</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thod Chaining</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you to simplify your syntax by connecting multiple functions (PHP5)</a:t>
            </a:r>
            <a:endParaRPr b="0" lang="en-US" sz="2300" spc="-1" strike="noStrike">
              <a:solidFill>
                <a:srgbClr val="000000"/>
              </a:solidFill>
              <a:latin typeface="Lucida Sans Unicode"/>
            </a:endParaRPr>
          </a:p>
        </p:txBody>
      </p:sp>
      <p:sp>
        <p:nvSpPr>
          <p:cNvPr id="53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0F46-7D92-4DC7-907C-61984CCF576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34" name="Rectangle 2" descr=""/>
          <p:cNvPicPr/>
          <p:nvPr/>
        </p:nvPicPr>
        <p:blipFill>
          <a:blip r:embed="rId1"/>
          <a:stretch/>
        </p:blipFill>
        <p:spPr>
          <a:xfrm>
            <a:off x="201600" y="274680"/>
            <a:ext cx="8485200" cy="1243080"/>
          </a:xfrm>
          <a:prstGeom prst="rect">
            <a:avLst/>
          </a:prstGeom>
          <a:ln w="0">
            <a:noFill/>
          </a:ln>
        </p:spPr>
      </p:pic>
      <p:sp>
        <p:nvSpPr>
          <p:cNvPr id="535" name="Text Box 4"/>
          <p:cNvSpPr/>
          <p:nvPr/>
        </p:nvSpPr>
        <p:spPr>
          <a:xfrm>
            <a:off x="831960" y="3933720"/>
            <a:ext cx="7803720" cy="9147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gt;db-&gt;select('title')-&gt;from('mytable')-&gt;where('id', $id)-&gt;limit(10, 20);</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query = $this-&gt;db-&gt;ge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deIgniter User Guide</a:t>
            </a:r>
            <a:endParaRPr b="0" lang="en-US" sz="2700" spc="-1" strike="noStrike">
              <a:solidFill>
                <a:srgbClr val="000000"/>
              </a:solidFill>
              <a:latin typeface="Lucida Sans Unicode"/>
            </a:endParaRPr>
          </a:p>
        </p:txBody>
      </p:sp>
      <p:sp>
        <p:nvSpPr>
          <p:cNvPr id="53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D651-1777-428D-8B5A-14281F7762F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3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 descr=""/>
          <p:cNvPicPr/>
          <p:nvPr/>
        </p:nvPicPr>
        <p:blipFill>
          <a:blip r:embed="rId1"/>
          <a:stretch/>
        </p:blipFill>
        <p:spPr>
          <a:xfrm>
            <a:off x="457200" y="1481040"/>
            <a:ext cx="8229600" cy="4525920"/>
          </a:xfrm>
          <a:prstGeom prst="rect">
            <a:avLst/>
          </a:prstGeom>
          <a:ln w="0">
            <a:noFill/>
          </a:ln>
        </p:spPr>
      </p:pic>
      <p:sp>
        <p:nvSpPr>
          <p:cNvPr id="54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7BA1-3990-4D56-8003-553070644DA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41" name="Rectangle 2" descr=""/>
          <p:cNvPicPr/>
          <p:nvPr/>
        </p:nvPicPr>
        <p:blipFill>
          <a:blip r:embed="rId2"/>
          <a:stretch/>
        </p:blipFill>
        <p:spPr>
          <a:xfrm>
            <a:off x="201600" y="274680"/>
            <a:ext cx="8485200" cy="1243080"/>
          </a:xfrm>
          <a:prstGeom prst="rect">
            <a:avLst/>
          </a:prstGeom>
          <a:ln w="0">
            <a:noFill/>
          </a:ln>
        </p:spPr>
      </p:pic>
      <p:pic>
        <p:nvPicPr>
          <p:cNvPr id="542" name="Picture 4" descr="mark zuckerberg biography facebook youngest billionaire"/>
          <p:cNvPicPr/>
          <p:nvPr/>
        </p:nvPicPr>
        <p:blipFill>
          <a:blip r:embed="rId3"/>
          <a:stretch/>
        </p:blipFill>
        <p:spPr>
          <a:xfrm>
            <a:off x="311040" y="3548160"/>
            <a:ext cx="3810240" cy="2533680"/>
          </a:xfrm>
          <a:prstGeom prst="rect">
            <a:avLst/>
          </a:prstGeom>
          <a:ln w="0">
            <a:noFill/>
          </a:ln>
        </p:spPr>
      </p:pic>
      <p:sp>
        <p:nvSpPr>
          <p:cNvPr id="543" name="AutoShape 5"/>
          <p:cNvSpPr/>
          <p:nvPr/>
        </p:nvSpPr>
        <p:spPr>
          <a:xfrm>
            <a:off x="2484360" y="2205000"/>
            <a:ext cx="3456000" cy="2160720"/>
          </a:xfrm>
          <a:prstGeom prst="cloudCallout">
            <a:avLst>
              <a:gd name="adj1" fmla="val -57717"/>
              <a:gd name="adj2" fmla="val 54115"/>
            </a:avLst>
          </a:prstGeom>
          <a:solidFill>
            <a:srgbClr val="2da2b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mp;&amp;*(((!#</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 is a powerful PHP framework with a very small footprint, built for PHP coders who need a simple and elegant toolkit to create full-featured web applications</a:t>
            </a:r>
            <a:endParaRPr b="0" lang="en-US" sz="2700" spc="-1" strike="noStrike">
              <a:solidFill>
                <a:srgbClr val="000000"/>
              </a:solidFill>
              <a:latin typeface="Lucida Sans Unicode"/>
            </a:endParaRPr>
          </a:p>
        </p:txBody>
      </p:sp>
      <p:sp>
        <p:nvSpPr>
          <p:cNvPr id="3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63F1-0FD3-4604-9127-DC3C6161D07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del-View-Controller Based System</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HP 4 Compatibl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tremely Light Weight</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ull Featured database classes with support for several platform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ctive Record Database Support</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 and Data Validatio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urity and XSS Filtering</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ssion Management</a:t>
            </a:r>
            <a:endParaRPr b="0" lang="en-US" sz="2800" spc="-1" strike="noStrike">
              <a:solidFill>
                <a:srgbClr val="000000"/>
              </a:solidFill>
              <a:latin typeface="Lucida Sans Unicode"/>
            </a:endParaRPr>
          </a:p>
        </p:txBody>
      </p:sp>
      <p:sp>
        <p:nvSpPr>
          <p:cNvPr id="39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BA98-0D77-4808-8323-5F198C8797C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4"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mail Sending Class. Supports Attachments, HTML/Text email, multiple protocols (sendmail, SMTP, and Mail) and more.</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mage Manipulation Library (cropping, resizing, rotating, etc.). Supports GD, ImageMagick, and NetPBM</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e Uploading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TP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ocalization</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agination</a:t>
            </a:r>
            <a:endParaRPr b="0" lang="en-US" sz="2800" spc="-1" strike="noStrike">
              <a:solidFill>
                <a:srgbClr val="000000"/>
              </a:solidFill>
              <a:latin typeface="Lucida Sans Unicode"/>
            </a:endParaRPr>
          </a:p>
        </p:txBody>
      </p:sp>
      <p:sp>
        <p:nvSpPr>
          <p:cNvPr id="39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1370-CBE5-441B-9707-0AD74363672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ata Encryp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nchmark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ull Page Cach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rror Logg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pplication Profil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caffold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alendaring Clas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ser Agent Class</a:t>
            </a:r>
            <a:endParaRPr b="0" lang="en-US" sz="2800" spc="-1" strike="noStrike">
              <a:solidFill>
                <a:srgbClr val="000000"/>
              </a:solidFill>
              <a:latin typeface="Lucida Sans Unicode"/>
            </a:endParaRPr>
          </a:p>
        </p:txBody>
      </p:sp>
      <p:sp>
        <p:nvSpPr>
          <p:cNvPr id="39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56AE-B27E-4DD8-903F-012BA6C3519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Zip Encoding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mplate Engine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ackback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XML-RPC Library</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nit Testing Clas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arch-engine Friendly URL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exible URI Routing</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pport for Hooks, Class Extensions, and Plugin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rge library of "helper" functions</a:t>
            </a:r>
            <a:endParaRPr b="0" lang="en-US" sz="2800" spc="-1" strike="noStrike">
              <a:solidFill>
                <a:srgbClr val="000000"/>
              </a:solidFill>
              <a:latin typeface="Lucida Sans Unicode"/>
            </a:endParaRPr>
          </a:p>
        </p:txBody>
      </p:sp>
      <p:sp>
        <p:nvSpPr>
          <p:cNvPr id="40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5C73-3010-4DEE-9910-C2955755AAB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4:49:05Z</dcterms:created>
  <dc:creator>nugrahaputra</dc:creator>
  <dc:description/>
  <dc:language>en-US</dc:language>
  <cp:lastModifiedBy>bhajoe</cp:lastModifiedBy>
  <dcterms:modified xsi:type="dcterms:W3CDTF">2012-05-13T05:38:32Z</dcterms:modified>
  <cp:revision>7</cp:revision>
  <dc:subject/>
  <dc:title>Pemrograman Web</dc:title>
</cp:coreProperties>
</file>